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99C-2CD1-46D1-B75C-D2F2E485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4A2-5096-4EC6-AECC-9C9D2C2C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2F7-B0E3-4010-BE14-2688BC85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EEA-269A-4BF2-9C79-6B3F020E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2EB-4976-4750-B68B-C80C1904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F6C-0A68-4BB5-89E1-4623B219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849-5BF7-4323-A794-8642B794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B08-1B02-43F1-B457-CA72C08E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DF9-5D74-48B3-8D7D-AB798060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E7D-5177-45C5-9D43-7B65F6D3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DD3-37B5-4CED-9B92-F37A976B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620-7D7F-4884-B5A7-A6535A7C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44F5-5487-4B28-A6B4-823718B66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6.xml"/><Relationship Id="rId9" Type="http://schemas.openxmlformats.org/officeDocument/2006/relationships/slide" Target="slide28.xml"/><Relationship Id="rId10" Type="http://schemas.openxmlformats.org/officeDocument/2006/relationships/slide" Target="slide30.xml"/><Relationship Id="rId11" Type="http://schemas.openxmlformats.org/officeDocument/2006/relationships/slide" Target="slide32.xm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st ta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gur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d that has the same meaning as another word is a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on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2 of the 4 strategies to use when writing the answer to a constructed response ques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ate the question in the answer, answer all parts of the question, use complete sentences, and use details to support your answ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you do when you know there are questions to answer after reading a pass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the questions first so you know what to look for when you are rea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you do when you can’t figure out the answer to a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p it, mark it, and come back to it l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you do before you come to school on the morning of test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t breakfast, relax, and follow the same routine you normally wou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look here to find the context clues to help you figure out the meaning of the vocabulary w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50/50 test taking strate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/50 means you eliminate the 2 answers you know are wro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author doesn’t directly state the main idea you need to _____ or guess what it 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compare two things you are finding the _____ between the tw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ood strategy to do if you don’t understand what you just 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don’t understand what you read you should re-read the sentence or paragraph that doesn’t make sen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looking at pictures or reading the title sometimes you can _____ what will happen in the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look at words or phrases in the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3 or more things you tell when you do a re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telling should include: title, author, main character, setting, main events in the correct order, and resolu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_____ compares two things using like, as, than, or resemb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ying, “She has a heart of stone,” is an example of a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purpose for writing a letter to the editor is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uade or in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purpose of the Anne Frank play was to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look for the meaning of the prefix, suffix, and root of the word you are looking at the ______ of the w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reality contradicts what we expect, it’s called 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___ of the story is the lesson or message the author wants you to take from the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in of related events that tells us what happens in the story is the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 character has a conflict within themselves it is an ______ confli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me or place in a story is the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st exciting or suspenseful part of the story is the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first thing you do to figure out an analo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relationship between the first pair of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iom “you better watch yourself” means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better be careful about your behavi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LSH High School</cp:lastModifiedBy>
  <dcterms:modified xsi:type="dcterms:W3CDTF">2008-05-27T00:39:39Z</dcterms:modified>
  <cp:revision>41</cp:revision>
  <dc:subject/>
  <dc:title>No Slide Title</dc:title>
</cp:coreProperties>
</file>